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6903021-300B-4E58-91A2-0BF70F153C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52E523E-A5B7-495B-BDDF-C15D1AC01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E8ECBB8-4EB2-49F2-9320-661B61D82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F947A39-B63D-409A-8E86-F8B67BD6E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8F581FC-F634-4550-8C27-172FB77E8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5177886-5C0D-4AF6-8468-B4CE9CB915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6B8A98A-3361-43C0-907E-6D488507C4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283365D-D6BB-4086-9448-58F7C08137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D3BEB95-A85B-4C5F-B009-993BA243F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93240" rIns="93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domain rule is asserted when the expression evaluates to TRUE; and is violated when the expression evaluates to FAL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D48F551-501B-48A7-93BB-692A1F989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93240" rIns="93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nce the subtype is a more specific kind of its supertype, every instance of a subtype is an instance of its supertype(s).  An entity is a subtype if, and only if, it contains a subtype clause.  A subtype entity inherits the attributes of the more general entities occurring above it in the subtype/supertype hierarch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1B7B150-79E2-4DE3-995D-A62BA3EA0C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5840" y="3833640"/>
            <a:ext cx="85723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8584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856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84200" y="127620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2920" y="127620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85840" y="383364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84200" y="383364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2920" y="383364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34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8584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56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85840" y="3833640"/>
            <a:ext cx="85723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85840" y="3833640"/>
            <a:ext cx="85723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8584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56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4200" y="127620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2920" y="127620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85840" y="383364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4200" y="383364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2920" y="383364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34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8584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856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85840" y="3833640"/>
            <a:ext cx="85723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14680" indent="-38124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90600" indent="-2854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90600" indent="-2854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90600" indent="-2854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324480"/>
            <a:ext cx="739116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" descr=""/>
          <p:cNvPicPr/>
          <p:nvPr/>
        </p:nvPicPr>
        <p:blipFill>
          <a:blip r:embed="rId3"/>
          <a:stretch/>
        </p:blipFill>
        <p:spPr>
          <a:xfrm>
            <a:off x="7848720" y="6019920"/>
            <a:ext cx="1066680" cy="6984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763120" y="6518160"/>
            <a:ext cx="380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4B073-CB72-409E-BCD8-D011CC4B562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June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04920" y="1009800"/>
            <a:ext cx="853416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19044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62120" algn="ctr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3" marL="133344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7632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7632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7632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2936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CIS/2 Technical Workshop 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2-25 June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03200" y="4892760"/>
            <a:ext cx="7238880" cy="1762200"/>
            <a:chOff x="403200" y="4892760"/>
            <a:chExt cx="7238880" cy="1762200"/>
          </a:xfrm>
        </p:grpSpPr>
        <p:graphicFrame>
          <p:nvGraphicFramePr>
            <p:cNvPr id="91" name=""/>
            <p:cNvGraphicFramePr/>
            <p:nvPr/>
          </p:nvGraphicFramePr>
          <p:xfrm>
            <a:off x="403200" y="5000760"/>
            <a:ext cx="7238880" cy="165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5000760"/>
                      <a:ext cx="72388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3" name=""/>
            <p:cNvSpPr/>
            <p:nvPr/>
          </p:nvSpPr>
          <p:spPr>
            <a:xfrm>
              <a:off x="3230640" y="4892760"/>
              <a:ext cx="34290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r A.J. Crowl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0" y="1866960"/>
            <a:ext cx="9144000" cy="27050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33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0.2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SO 10303-11: 1994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n Introduction to the EXPRESS Data Definition Languag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Main Features of EXPR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containing structure - SCHEM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definition of objects - ENTITI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attributes of the objects - 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traints on the objec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WHER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NVERS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RIV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FUNCTIONs,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Global RULEs,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RESS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72960" indent="-3729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EXPRESS every value (attribute, local variable or formal parameter) has an associated data typ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72960" indent="-3729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ypes can be classified as either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) SIMPLE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) NAMED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) ENTITY TYPE, or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199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b) DEFINED TYP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57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) AGGREGATION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4) CONSTRU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) ENUMERATION, or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199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b) SELECT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1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mple data types are the basic types provided by the EXPRESS languag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UMBER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AL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GER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RING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OOLEAN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GICAL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INARY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2a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TITY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66400" y="1257480"/>
            <a:ext cx="8496360" cy="45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NTITY data type used to establish a relationship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group_relationship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ame : labe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scription : text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relating_group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related_group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group_name : labe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group_description : text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62360" y="2682720"/>
            <a:ext cx="4042080" cy="28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Th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group_relationship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 entity has two attributes named having the data typ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This effectively relates the group_relationship with two group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and hence relates two groups to each oth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2b. DEFINED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305920" cy="514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of a DEFINED data type declared by a TYPE assigned by the modeller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dentifier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 STRING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ab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 STRING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ex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 STRING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54000" y="5487840"/>
            <a:ext cx="70455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The attributes named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id, name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, and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 are all STRINGs.  However, the use of the defined data types help to clarify the meaning and context of the STRING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55360" y="2400480"/>
            <a:ext cx="5685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organization 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d : OPTIONAL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dentifier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ame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ab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scription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ex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R1 : i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61800" y="306360"/>
            <a:ext cx="8305920" cy="6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3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ggreg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66760" y="1238040"/>
            <a:ext cx="83246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ggregation types are used to represent ordered or unordered collections of elements of some basic typ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assembly_design_structural_connection_interna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UBTYPE OF (assembly_design_structural_connection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nnected_members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ET [2:?] OF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ssembly_design_structural_member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71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GGREGATION data types may be either: ARRAY, BAG, LIST, or SE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304560"/>
            <a:ext cx="8286480" cy="89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4a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umeration Data Typ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23640" y="1294920"/>
            <a:ext cx="8248680" cy="448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69360" indent="-369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numeration data type is an ordered set of values represented by names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31240" indent="-276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values of the enumeration type are designated by enumeration_ids and are referred to as enumeration item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1240" indent="-276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ach enumeration item belongs only to the data type which defines it and must be unique within that type defini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3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293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action_source_accidentia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293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= ENUMERATION OF 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ire, impulse, impact, undefined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293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59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4b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lect Data Typ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6760" y="1219320"/>
            <a:ext cx="84772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76920" indent="-37692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select data type defines a named collection of other types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692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is collection is called the select list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692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instance of a select data type is an instance of one of the types specified in the type list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14440" indent="-28296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his allows an attribute or variable to be one of several types.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692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the type of an attribute is a select type, then it is defined to be one of the types in the select lis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assembly_component_select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= SELECT (assembly_manufacturing_child, located_part, located_feature, located_joint_system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51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omain Rul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62080"/>
            <a:ext cx="84772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76920" indent="-37692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omain rules specify constraints that restrict a defined data typ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692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omain rules follow the WHERE keywor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14440" indent="-28296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Each domain rule evaluates to a logical (TRUE, FALSE, UNKNOWN) value.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length_measure = REA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 -- STEP Part 41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ositive_length_measur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= length_measure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WHER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WR41T1 : SELF &gt; 0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 -- STEP Part 41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54760" y="4549680"/>
            <a:ext cx="401292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Any attribute, local variable or formal parameter declared to be of typ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positive_length_measure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 is constrained to have only positive valu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5840" y="304560"/>
            <a:ext cx="8534160" cy="54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pertypes &amp; Sub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47320" y="1217520"/>
            <a:ext cx="8458200" cy="4727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61800" indent="-36180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subtype/supertype structure is the mechanism for specifying classification (or categorization) of object types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447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assembly 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BSTRACT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PERTYP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O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47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(ONEOF (assembly_design, assembly_manufactu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47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NDOR assembly_with_shape)</a:t>
            </a: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BTYP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OF (structural_frame_product)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ssembly_sequence_number : OPTIONAL INTEGER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plexity : OPTIONAL complexity_level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Arial"/>
              </a:rPr>
              <a:t>A subtype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inherits</a:t>
            </a:r>
            <a:r>
              <a:rPr b="1" i="1" lang="en-GB" sz="2400" spc="-1" strike="noStrike">
                <a:solidFill>
                  <a:srgbClr val="ffff00"/>
                </a:solidFill>
                <a:latin typeface="Arial"/>
              </a:rPr>
              <a:t> all the attributes of its supertype(s)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3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and the attributes of the supertypes’ supertypes, etc..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100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103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106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09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112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VERSE attribu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47680" y="11430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very attribute which as an entity as its data type, establishes an entity relationship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In both directions!!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y default the inverse cardinality is [0:?]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verse attributes are declared following the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VERSE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keyword.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INVERSE clause constrains the relationship in the 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inverse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direc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inverse attribute captures the relationship between the entity being referred to, and the named attribute of the referencing entity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VERSE attributes (Example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analysis_mode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ponent_elements : SET [1:?] OF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lemen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FOR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arent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ponent_nodes : SET [2:?] OF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od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FOR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arent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node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ode_name : labe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arent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analysis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R1 : node_name, parent_mode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51600" y="3713040"/>
            <a:ext cx="5270400" cy="23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lement_name :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arent_model :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analysis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R1 : element_name, parent_mod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193840" y="2712960"/>
            <a:ext cx="3422520" cy="1025640"/>
            <a:chOff x="2193840" y="2712960"/>
            <a:chExt cx="3422520" cy="1025640"/>
          </a:xfrm>
        </p:grpSpPr>
        <p:sp>
          <p:nvSpPr>
            <p:cNvPr id="162" name=""/>
            <p:cNvSpPr/>
            <p:nvPr/>
          </p:nvSpPr>
          <p:spPr>
            <a:xfrm>
              <a:off x="2193840" y="3030480"/>
              <a:ext cx="663840" cy="708120"/>
            </a:xfrm>
            <a:prstGeom prst="upDownArrow">
              <a:avLst>
                <a:gd name="adj1" fmla="val 50000"/>
                <a:gd name="adj2" fmla="val 2123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937040" y="2712960"/>
              <a:ext cx="663840" cy="909720"/>
            </a:xfrm>
            <a:prstGeom prst="upDownArrow">
              <a:avLst>
                <a:gd name="adj1" fmla="val 50000"/>
                <a:gd name="adj2" fmla="val 27281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328120" y="3127320"/>
              <a:ext cx="328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3300"/>
                  </a:solidFill>
                  <a:latin typeface="Univers"/>
                </a:rPr>
                <a:t>mutual dependency!!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47520" y="85680"/>
          <a:ext cx="9191880" cy="1052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520" y="85680"/>
                    <a:ext cx="9191880" cy="105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9360" y="-4761000"/>
          <a:ext cx="9191880" cy="1052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0" y="-4761000"/>
                    <a:ext cx="9191880" cy="105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RESS-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460320" y="1275840"/>
            <a:ext cx="5397480" cy="231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Graphical form of EX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illustrated EXPRESS data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esents a limited subset of EXPRESS langua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173800" y="423540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25360" y="3678120"/>
            <a:ext cx="287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7578720" y="5235480"/>
            <a:ext cx="1235160" cy="552600"/>
            <a:chOff x="7578720" y="5235480"/>
            <a:chExt cx="1235160" cy="552600"/>
          </a:xfrm>
        </p:grpSpPr>
        <p:sp>
          <p:nvSpPr>
            <p:cNvPr id="174" name=""/>
            <p:cNvSpPr/>
            <p:nvPr/>
          </p:nvSpPr>
          <p:spPr>
            <a:xfrm>
              <a:off x="7578720" y="5403600"/>
              <a:ext cx="12351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083440" y="52354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8672400" y="5411520"/>
              <a:ext cx="0" cy="37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3063960" y="4978440"/>
            <a:ext cx="4004280" cy="1009440"/>
            <a:chOff x="3063960" y="4978440"/>
            <a:chExt cx="4004280" cy="1009440"/>
          </a:xfrm>
        </p:grpSpPr>
        <p:sp>
          <p:nvSpPr>
            <p:cNvPr id="178" name=""/>
            <p:cNvSpPr/>
            <p:nvPr/>
          </p:nvSpPr>
          <p:spPr>
            <a:xfrm>
              <a:off x="3304440" y="514512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63960" y="53053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440600" y="497844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5311800" y="5110200"/>
              <a:ext cx="1756440" cy="374400"/>
              <a:chOff x="5311800" y="5110200"/>
              <a:chExt cx="1756440" cy="374400"/>
            </a:xfrm>
          </p:grpSpPr>
          <p:sp>
            <p:nvSpPr>
              <p:cNvPr id="182" name=""/>
              <p:cNvSpPr/>
              <p:nvPr/>
            </p:nvSpPr>
            <p:spPr>
              <a:xfrm>
                <a:off x="5311800" y="52624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468760" y="5113440"/>
                <a:ext cx="159948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6969960" y="511020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325840" y="5613120"/>
              <a:ext cx="1339200" cy="374760"/>
              <a:chOff x="5325840" y="5613120"/>
              <a:chExt cx="1339200" cy="374760"/>
            </a:xfrm>
          </p:grpSpPr>
          <p:sp>
            <p:nvSpPr>
              <p:cNvPr id="186" name=""/>
              <p:cNvSpPr/>
              <p:nvPr/>
            </p:nvSpPr>
            <p:spPr>
              <a:xfrm>
                <a:off x="5325840" y="5751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482800" y="5616720"/>
                <a:ext cx="11822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>
                <a:off x="6567120" y="561312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89" name=""/>
            <p:cNvCxnSpPr>
              <a:stCxn id="178" idx="3"/>
              <a:endCxn id="182" idx="2"/>
            </p:cNvCxnSpPr>
            <p:nvPr/>
          </p:nvCxnSpPr>
          <p:spPr>
            <a:xfrm flipV="1">
              <a:off x="4250880" y="5338080"/>
              <a:ext cx="104652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0" name=""/>
            <p:cNvCxnSpPr>
              <a:stCxn id="178" idx="2"/>
              <a:endCxn id="186" idx="2"/>
            </p:cNvCxnSpPr>
            <p:nvPr/>
          </p:nvCxnSpPr>
          <p:spPr>
            <a:xfrm flipH="1" rot="16200000">
              <a:off x="4415400" y="4932360"/>
              <a:ext cx="243360" cy="154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1" name=""/>
            <p:cNvSpPr/>
            <p:nvPr/>
          </p:nvSpPr>
          <p:spPr>
            <a:xfrm>
              <a:off x="4440240" y="546912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92" name=""/>
          <p:cNvCxnSpPr>
            <a:stCxn id="193" idx="2"/>
            <a:endCxn id="179" idx="2"/>
          </p:cNvCxnSpPr>
          <p:nvPr/>
        </p:nvCxnSpPr>
        <p:spPr>
          <a:xfrm flipH="1" rot="16200000">
            <a:off x="2482920" y="4846320"/>
            <a:ext cx="770400" cy="33552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sp>
        <p:nvSpPr>
          <p:cNvPr id="194" name=""/>
          <p:cNvSpPr/>
          <p:nvPr/>
        </p:nvSpPr>
        <p:spPr>
          <a:xfrm>
            <a:off x="312840" y="133812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131840" y="2548080"/>
            <a:ext cx="690480" cy="592560"/>
            <a:chOff x="1131840" y="2548080"/>
            <a:chExt cx="690480" cy="592560"/>
          </a:xfrm>
        </p:grpSpPr>
        <p:sp>
          <p:nvSpPr>
            <p:cNvPr id="196" name=""/>
            <p:cNvSpPr/>
            <p:nvPr/>
          </p:nvSpPr>
          <p:spPr>
            <a:xfrm>
              <a:off x="1131840" y="277020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382400" y="25480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1241280" y="275220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99" name=""/>
          <p:cNvCxnSpPr>
            <a:stCxn id="194" idx="2"/>
            <a:endCxn id="197" idx="0"/>
          </p:cNvCxnSpPr>
          <p:nvPr/>
        </p:nvCxnSpPr>
        <p:spPr>
          <a:xfrm>
            <a:off x="1472760" y="1777680"/>
            <a:ext cx="3960" cy="756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00" name=""/>
          <p:cNvGrpSpPr/>
          <p:nvPr/>
        </p:nvGrpSpPr>
        <p:grpSpPr>
          <a:xfrm>
            <a:off x="1693800" y="3598920"/>
            <a:ext cx="1792440" cy="398880"/>
            <a:chOff x="1693800" y="3598920"/>
            <a:chExt cx="1792440" cy="398880"/>
          </a:xfrm>
        </p:grpSpPr>
        <p:sp>
          <p:nvSpPr>
            <p:cNvPr id="201" name=""/>
            <p:cNvSpPr/>
            <p:nvPr/>
          </p:nvSpPr>
          <p:spPr>
            <a:xfrm>
              <a:off x="1917000" y="35989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693800" y="37004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1720800" y="4189320"/>
            <a:ext cx="1734840" cy="398880"/>
            <a:chOff x="1720800" y="4189320"/>
            <a:chExt cx="1734840" cy="398880"/>
          </a:xfrm>
        </p:grpSpPr>
        <p:sp>
          <p:nvSpPr>
            <p:cNvPr id="193" name=""/>
            <p:cNvSpPr/>
            <p:nvPr/>
          </p:nvSpPr>
          <p:spPr>
            <a:xfrm>
              <a:off x="1944360" y="418932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20800" y="42908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5" name=""/>
          <p:cNvCxnSpPr>
            <a:stCxn id="196" idx="2"/>
            <a:endCxn id="204" idx="2"/>
          </p:cNvCxnSpPr>
          <p:nvPr/>
        </p:nvCxnSpPr>
        <p:spPr>
          <a:xfrm flipH="1" rot="16200000">
            <a:off x="988560" y="3667680"/>
            <a:ext cx="1205640" cy="229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06" name=""/>
          <p:cNvCxnSpPr>
            <a:stCxn id="196" idx="2"/>
            <a:endCxn id="202" idx="2"/>
          </p:cNvCxnSpPr>
          <p:nvPr/>
        </p:nvCxnSpPr>
        <p:spPr>
          <a:xfrm flipH="1" rot="16200000">
            <a:off x="1271520" y="3385800"/>
            <a:ext cx="614880" cy="20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7" name=""/>
          <p:cNvSpPr/>
          <p:nvPr/>
        </p:nvSpPr>
        <p:spPr>
          <a:xfrm>
            <a:off x="1438560" y="20239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85760" y="166536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424160" y="1674720"/>
            <a:ext cx="10296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960720" y="4056120"/>
            <a:ext cx="4189320" cy="508680"/>
            <a:chOff x="3960720" y="4056120"/>
            <a:chExt cx="4189320" cy="508680"/>
          </a:xfrm>
        </p:grpSpPr>
        <p:sp>
          <p:nvSpPr>
            <p:cNvPr id="211" name=""/>
            <p:cNvSpPr/>
            <p:nvPr/>
          </p:nvSpPr>
          <p:spPr>
            <a:xfrm>
              <a:off x="4197600" y="4165920"/>
              <a:ext cx="28994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ntext_dependent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960720" y="43117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183800" y="405612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7111440" y="4424400"/>
              <a:ext cx="870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997760" y="43405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6" name=""/>
          <p:cNvCxnSpPr>
            <a:stCxn id="193" idx="3"/>
            <a:endCxn id="212" idx="2"/>
          </p:cNvCxnSpPr>
          <p:nvPr/>
        </p:nvCxnSpPr>
        <p:spPr>
          <a:xfrm>
            <a:off x="3484440" y="4401720"/>
            <a:ext cx="448560" cy="3960"/>
          </a:xfrm>
          <a:prstGeom prst="bentConnector3">
            <a:avLst>
              <a:gd name="adj1" fmla="val 51405"/>
            </a:avLst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217" name=""/>
          <p:cNvCxnSpPr>
            <a:stCxn id="171" idx="2"/>
            <a:endCxn id="175" idx="0"/>
          </p:cNvCxnSpPr>
          <p:nvPr/>
        </p:nvCxnSpPr>
        <p:spPr>
          <a:xfrm rot="5400000">
            <a:off x="8043120" y="4760640"/>
            <a:ext cx="577080" cy="345240"/>
          </a:xfrm>
          <a:prstGeom prst="bentConnector3">
            <a:avLst>
              <a:gd name="adj1" fmla="val 49812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&amp; Defined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370320" y="17794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878080" y="261936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730840" y="43909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23" idx="2"/>
            <a:endCxn id="221" idx="2"/>
          </p:cNvCxnSpPr>
          <p:nvPr/>
        </p:nvCxnSpPr>
        <p:spPr>
          <a:xfrm flipH="1" rot="16200000">
            <a:off x="2640240" y="1392120"/>
            <a:ext cx="2085120" cy="406584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24" name=""/>
          <p:cNvSpPr/>
          <p:nvPr/>
        </p:nvSpPr>
        <p:spPr>
          <a:xfrm>
            <a:off x="5688000" y="27558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" name=""/>
          <p:cNvCxnSpPr>
            <a:stCxn id="223" idx="3"/>
            <a:endCxn id="226" idx="2"/>
          </p:cNvCxnSpPr>
          <p:nvPr/>
        </p:nvCxnSpPr>
        <p:spPr>
          <a:xfrm>
            <a:off x="3025800" y="2155320"/>
            <a:ext cx="2370960" cy="10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26" name=""/>
          <p:cNvSpPr/>
          <p:nvPr/>
        </p:nvSpPr>
        <p:spPr>
          <a:xfrm>
            <a:off x="5410080" y="20797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89080" y="194328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034640" y="13176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275800" y="131760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ata Typ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935680" y="4229280"/>
            <a:ext cx="5493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71480" y="242892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5440" y="405288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316320" y="13176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309800" y="19080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250400" y="416232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5600880" y="1947600"/>
            <a:ext cx="1363320" cy="376200"/>
            <a:chOff x="5600880" y="1947600"/>
            <a:chExt cx="1363320" cy="376200"/>
          </a:xfrm>
        </p:grpSpPr>
        <p:sp>
          <p:nvSpPr>
            <p:cNvPr id="236" name=""/>
            <p:cNvSpPr/>
            <p:nvPr/>
          </p:nvSpPr>
          <p:spPr>
            <a:xfrm>
              <a:off x="5600880" y="1947960"/>
              <a:ext cx="13633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6823080" y="194760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2338560" y="2149560"/>
            <a:ext cx="2872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" name=""/>
          <p:cNvCxnSpPr>
            <a:stCxn id="238" idx="2"/>
            <a:endCxn id="224" idx="2"/>
          </p:cNvCxnSpPr>
          <p:nvPr/>
        </p:nvCxnSpPr>
        <p:spPr>
          <a:xfrm flipH="1" rot="16200000">
            <a:off x="3836880" y="996120"/>
            <a:ext cx="481680" cy="3191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40" name=""/>
          <p:cNvGrpSpPr/>
          <p:nvPr/>
        </p:nvGrpSpPr>
        <p:grpSpPr>
          <a:xfrm>
            <a:off x="5629320" y="3246480"/>
            <a:ext cx="1234800" cy="744480"/>
            <a:chOff x="5629320" y="3246480"/>
            <a:chExt cx="1234800" cy="744480"/>
          </a:xfrm>
        </p:grpSpPr>
        <p:sp>
          <p:nvSpPr>
            <p:cNvPr id="241" name=""/>
            <p:cNvSpPr/>
            <p:nvPr/>
          </p:nvSpPr>
          <p:spPr>
            <a:xfrm>
              <a:off x="5629320" y="3414960"/>
              <a:ext cx="123480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134040" y="3246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6723000" y="342252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134040" y="3838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45" name=""/>
          <p:cNvCxnSpPr>
            <a:stCxn id="229" idx="0"/>
            <a:endCxn id="244" idx="4"/>
          </p:cNvCxnSpPr>
          <p:nvPr/>
        </p:nvCxnSpPr>
        <p:spPr>
          <a:xfrm flipV="1">
            <a:off x="6210000" y="4005000"/>
            <a:ext cx="1080" cy="210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46" name=""/>
          <p:cNvCxnSpPr>
            <a:stCxn id="220" idx="2"/>
            <a:endCxn id="242" idx="0"/>
          </p:cNvCxnSpPr>
          <p:nvPr/>
        </p:nvCxnSpPr>
        <p:spPr>
          <a:xfrm flipH="1" rot="16200000">
            <a:off x="6107040" y="3129480"/>
            <a:ext cx="203760" cy="2520"/>
          </a:xfrm>
          <a:prstGeom prst="bentConnector3">
            <a:avLst>
              <a:gd name="adj1" fmla="val 4991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47" name=""/>
          <p:cNvSpPr/>
          <p:nvPr/>
        </p:nvSpPr>
        <p:spPr>
          <a:xfrm>
            <a:off x="7250400" y="265896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309800" y="33670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-119160" y="4707000"/>
            <a:ext cx="48740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structural_frame_it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umber : INTEG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ame :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description : OPTIONAL tex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04160" y="3486240"/>
            <a:ext cx="230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Optional at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tity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438360" y="1881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stCxn id="254" idx="3"/>
            <a:endCxn id="252" idx="2"/>
          </p:cNvCxnSpPr>
          <p:nvPr/>
        </p:nvCxnSpPr>
        <p:spPr>
          <a:xfrm>
            <a:off x="1825200" y="1952280"/>
            <a:ext cx="159948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55" name=""/>
          <p:cNvSpPr/>
          <p:nvPr/>
        </p:nvSpPr>
        <p:spPr>
          <a:xfrm>
            <a:off x="1987560" y="15908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617280" y="173988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85480" y="1739880"/>
            <a:ext cx="1511280" cy="411120"/>
            <a:chOff x="285480" y="1739880"/>
            <a:chExt cx="1511280" cy="411120"/>
          </a:xfrm>
        </p:grpSpPr>
        <p:sp>
          <p:nvSpPr>
            <p:cNvPr id="254" name=""/>
            <p:cNvSpPr/>
            <p:nvPr/>
          </p:nvSpPr>
          <p:spPr>
            <a:xfrm>
              <a:off x="285480" y="173988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17240" y="206352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500120" y="206352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23920" y="3537000"/>
            <a:ext cx="4368600" cy="28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named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 : dimensional_expon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dimensional_expon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ngth_exponent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_exponent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exponent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91920" y="3456000"/>
            <a:ext cx="186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ngth_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2" name=""/>
          <p:cNvCxnSpPr>
            <a:stCxn id="256" idx="2"/>
            <a:endCxn id="263" idx="2"/>
          </p:cNvCxnSpPr>
          <p:nvPr/>
        </p:nvCxnSpPr>
        <p:spPr>
          <a:xfrm flipH="1" rot="16200000">
            <a:off x="5782320" y="1442880"/>
            <a:ext cx="1129320" cy="2602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4" name=""/>
          <p:cNvSpPr/>
          <p:nvPr/>
        </p:nvSpPr>
        <p:spPr>
          <a:xfrm>
            <a:off x="485280" y="118728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865160" y="118728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754080" y="1187280"/>
            <a:ext cx="25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tity Data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551920" y="292104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_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26400" y="237168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9" name=""/>
          <p:cNvCxnSpPr>
            <a:stCxn id="270" idx="2"/>
            <a:endCxn id="271" idx="2"/>
          </p:cNvCxnSpPr>
          <p:nvPr/>
        </p:nvCxnSpPr>
        <p:spPr>
          <a:xfrm flipH="1" rot="16200000">
            <a:off x="5022000" y="1219320"/>
            <a:ext cx="1694520" cy="3556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0" name=""/>
          <p:cNvSpPr/>
          <p:nvPr/>
        </p:nvSpPr>
        <p:spPr>
          <a:xfrm>
            <a:off x="3954600" y="1992240"/>
            <a:ext cx="272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2" name=""/>
          <p:cNvCxnSpPr>
            <a:stCxn id="273" idx="2"/>
            <a:endCxn id="274" idx="2"/>
          </p:cNvCxnSpPr>
          <p:nvPr/>
        </p:nvCxnSpPr>
        <p:spPr>
          <a:xfrm flipH="1" rot="16200000">
            <a:off x="6483960" y="1611360"/>
            <a:ext cx="624600" cy="1702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3" name=""/>
          <p:cNvSpPr/>
          <p:nvPr/>
        </p:nvSpPr>
        <p:spPr>
          <a:xfrm>
            <a:off x="5808600" y="1992240"/>
            <a:ext cx="273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823160" y="3117960"/>
            <a:ext cx="94464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8669160" y="311760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62960" y="32320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661160" y="37688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824960" y="3622680"/>
            <a:ext cx="9442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8642520" y="362232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7661160" y="2582640"/>
            <a:ext cx="1123920" cy="376200"/>
            <a:chOff x="7661160" y="2582640"/>
            <a:chExt cx="1123920" cy="376200"/>
          </a:xfrm>
        </p:grpSpPr>
        <p:sp>
          <p:nvSpPr>
            <p:cNvPr id="274" name=""/>
            <p:cNvSpPr/>
            <p:nvPr/>
          </p:nvSpPr>
          <p:spPr>
            <a:xfrm>
              <a:off x="7661160" y="2698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840440" y="2583000"/>
              <a:ext cx="9446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8658000" y="258264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pertypes &amp; Sub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111320" y="126828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919080" y="2400480"/>
            <a:ext cx="3119400" cy="626040"/>
            <a:chOff x="919080" y="2400480"/>
            <a:chExt cx="3119400" cy="626040"/>
          </a:xfrm>
        </p:grpSpPr>
        <p:sp>
          <p:nvSpPr>
            <p:cNvPr id="285" name=""/>
            <p:cNvSpPr/>
            <p:nvPr/>
          </p:nvSpPr>
          <p:spPr>
            <a:xfrm>
              <a:off x="919080" y="2629080"/>
              <a:ext cx="31194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371680" y="24004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87" name=""/>
          <p:cNvCxnSpPr>
            <a:stCxn id="283" idx="2"/>
            <a:endCxn id="286" idx="0"/>
          </p:cNvCxnSpPr>
          <p:nvPr/>
        </p:nvCxnSpPr>
        <p:spPr>
          <a:xfrm rot="5400000">
            <a:off x="2136960" y="2035800"/>
            <a:ext cx="664200" cy="8640"/>
          </a:xfrm>
          <a:prstGeom prst="bentConnector3">
            <a:avLst>
              <a:gd name="adj1" fmla="val 5092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88" name=""/>
          <p:cNvSpPr/>
          <p:nvPr/>
        </p:nvSpPr>
        <p:spPr>
          <a:xfrm>
            <a:off x="2170080" y="181764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53800" y="1239840"/>
            <a:ext cx="16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uper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4052880" y="2411280"/>
            <a:ext cx="4834440" cy="1326600"/>
            <a:chOff x="4052880" y="2411280"/>
            <a:chExt cx="4834440" cy="1326600"/>
          </a:xfrm>
        </p:grpSpPr>
        <p:grpSp>
          <p:nvGrpSpPr>
            <p:cNvPr id="291" name=""/>
            <p:cNvGrpSpPr/>
            <p:nvPr/>
          </p:nvGrpSpPr>
          <p:grpSpPr>
            <a:xfrm>
              <a:off x="4052880" y="2411280"/>
              <a:ext cx="4834440" cy="762840"/>
              <a:chOff x="4052880" y="2411280"/>
              <a:chExt cx="4834440" cy="762840"/>
            </a:xfrm>
          </p:grpSpPr>
          <p:grpSp>
            <p:nvGrpSpPr>
              <p:cNvPr id="292" name=""/>
              <p:cNvGrpSpPr/>
              <p:nvPr/>
            </p:nvGrpSpPr>
            <p:grpSpPr>
              <a:xfrm>
                <a:off x="5656320" y="2470320"/>
                <a:ext cx="3231000" cy="703800"/>
                <a:chOff x="5656320" y="2470320"/>
                <a:chExt cx="3231000" cy="70380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5873400" y="2470320"/>
                  <a:ext cx="3013920" cy="7038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structural_frame_produc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_with_materia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5656320" y="2746440"/>
                  <a:ext cx="18108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295" name=""/>
              <p:cNvCxnSpPr>
                <a:stCxn id="285" idx="3"/>
                <a:endCxn id="294" idx="2"/>
              </p:cNvCxnSpPr>
              <p:nvPr/>
            </p:nvCxnSpPr>
            <p:spPr>
              <a:xfrm flipV="1">
                <a:off x="4052880" y="2839680"/>
                <a:ext cx="1575360" cy="2160"/>
              </a:xfrm>
              <a:prstGeom prst="bentConnector3">
                <a:avLst>
                  <a:gd name="adj1" fmla="val 50400"/>
                </a:avLst>
              </a:prstGeom>
              <a:ln w="76320">
                <a:solidFill>
                  <a:srgbClr val="000000"/>
                </a:solidFill>
                <a:miter/>
              </a:ln>
            </p:spPr>
          </p:cxnSp>
          <p:sp>
            <p:nvSpPr>
              <p:cNvPr id="296" name=""/>
              <p:cNvSpPr/>
              <p:nvPr/>
            </p:nvSpPr>
            <p:spPr>
              <a:xfrm>
                <a:off x="4454640" y="2411280"/>
                <a:ext cx="10058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AND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6691680" y="3278160"/>
              <a:ext cx="138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ff"/>
                  </a:solidFill>
                  <a:latin typeface="Arial"/>
                </a:rPr>
                <a:t>Subtyp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313560" y="3068280"/>
            <a:ext cx="2851200" cy="2788560"/>
            <a:chOff x="313560" y="3068280"/>
            <a:chExt cx="2851200" cy="2788560"/>
          </a:xfrm>
        </p:grpSpPr>
        <p:grpSp>
          <p:nvGrpSpPr>
            <p:cNvPr id="299" name=""/>
            <p:cNvGrpSpPr/>
            <p:nvPr/>
          </p:nvGrpSpPr>
          <p:grpSpPr>
            <a:xfrm>
              <a:off x="313560" y="3068280"/>
              <a:ext cx="2166120" cy="2788560"/>
              <a:chOff x="313560" y="3068280"/>
              <a:chExt cx="2166120" cy="2788560"/>
            </a:xfrm>
          </p:grpSpPr>
          <p:grpSp>
            <p:nvGrpSpPr>
              <p:cNvPr id="300" name=""/>
              <p:cNvGrpSpPr/>
              <p:nvPr/>
            </p:nvGrpSpPr>
            <p:grpSpPr>
              <a:xfrm>
                <a:off x="949680" y="4068720"/>
                <a:ext cx="858240" cy="398880"/>
                <a:chOff x="949680" y="4068720"/>
                <a:chExt cx="858240" cy="3988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949680" y="4068720"/>
                  <a:ext cx="619560" cy="398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par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1620720" y="4170240"/>
                  <a:ext cx="187200" cy="18756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573480" y="3541680"/>
                <a:ext cx="1234440" cy="398880"/>
                <a:chOff x="573480" y="3541680"/>
                <a:chExt cx="1234440" cy="3988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573480" y="3541680"/>
                  <a:ext cx="1002240" cy="398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coating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1620720" y="3657600"/>
                  <a:ext cx="18720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472320" y="4589640"/>
                <a:ext cx="1335240" cy="398880"/>
                <a:chOff x="472320" y="4589640"/>
                <a:chExt cx="1335240" cy="3988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472320" y="4589640"/>
                  <a:ext cx="1101240" cy="398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fasten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1620360" y="4707000"/>
                  <a:ext cx="18720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9" name=""/>
              <p:cNvSpPr/>
              <p:nvPr/>
            </p:nvSpPr>
            <p:spPr>
              <a:xfrm>
                <a:off x="2123640" y="3276720"/>
                <a:ext cx="3232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10" name=""/>
              <p:cNvCxnSpPr>
                <a:stCxn id="285" idx="2"/>
                <a:endCxn id="305" idx="6"/>
              </p:cNvCxnSpPr>
              <p:nvPr/>
            </p:nvCxnSpPr>
            <p:spPr>
              <a:xfrm rot="5400000">
                <a:off x="1816920" y="3088440"/>
                <a:ext cx="682920" cy="6433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  <p:cxnSp>
            <p:nvCxnSpPr>
              <p:cNvPr id="311" name=""/>
              <p:cNvCxnSpPr>
                <a:stCxn id="285" idx="2"/>
                <a:endCxn id="302" idx="6"/>
              </p:cNvCxnSpPr>
              <p:nvPr/>
            </p:nvCxnSpPr>
            <p:spPr>
              <a:xfrm rot="5400000">
                <a:off x="1560240" y="3344760"/>
                <a:ext cx="1196280" cy="6433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  <p:cxnSp>
            <p:nvCxnSpPr>
              <p:cNvPr id="312" name=""/>
              <p:cNvCxnSpPr>
                <a:stCxn id="285" idx="2"/>
                <a:endCxn id="308" idx="6"/>
              </p:cNvCxnSpPr>
              <p:nvPr/>
            </p:nvCxnSpPr>
            <p:spPr>
              <a:xfrm rot="5400000">
                <a:off x="1292040" y="3612960"/>
                <a:ext cx="1732680" cy="6433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  <p:grpSp>
            <p:nvGrpSpPr>
              <p:cNvPr id="313" name=""/>
              <p:cNvGrpSpPr/>
              <p:nvPr/>
            </p:nvGrpSpPr>
            <p:grpSpPr>
              <a:xfrm>
                <a:off x="313560" y="5153040"/>
                <a:ext cx="1479960" cy="703800"/>
                <a:chOff x="313560" y="5153040"/>
                <a:chExt cx="1479960" cy="70380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313560" y="5153040"/>
                  <a:ext cx="1258200" cy="7038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(ABS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assembly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1606320" y="5443200"/>
                  <a:ext cx="18720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16" name=""/>
              <p:cNvCxnSpPr>
                <a:stCxn id="285" idx="2"/>
                <a:endCxn id="315" idx="6"/>
              </p:cNvCxnSpPr>
              <p:nvPr/>
            </p:nvCxnSpPr>
            <p:spPr>
              <a:xfrm rot="5400000">
                <a:off x="916200" y="3974040"/>
                <a:ext cx="2469240" cy="65808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317" name=""/>
            <p:cNvSpPr/>
            <p:nvPr/>
          </p:nvSpPr>
          <p:spPr>
            <a:xfrm rot="16200000">
              <a:off x="2159280" y="4400640"/>
              <a:ext cx="155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ff"/>
                  </a:solidFill>
                  <a:latin typeface="Arial"/>
                </a:rPr>
                <a:t>Subtyp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2824560" y="209700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ub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031920" y="3997440"/>
            <a:ext cx="6287040" cy="22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structural_frame_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PERTYPE O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ONEO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(assembly,coating, part, fastener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structural_frame_product_with_mater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BTYP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O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(structural_frame_item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ife_cycle_stage : OPTIONAL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umer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2847960" y="1933560"/>
            <a:ext cx="4005000" cy="1009440"/>
            <a:chOff x="2847960" y="1933560"/>
            <a:chExt cx="4005000" cy="1009440"/>
          </a:xfrm>
        </p:grpSpPr>
        <p:sp>
          <p:nvSpPr>
            <p:cNvPr id="322" name=""/>
            <p:cNvSpPr/>
            <p:nvPr/>
          </p:nvSpPr>
          <p:spPr>
            <a:xfrm>
              <a:off x="3088800" y="210024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847960" y="22604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224960" y="193356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5096160" y="2065320"/>
              <a:ext cx="1756800" cy="374400"/>
              <a:chOff x="5096160" y="2065320"/>
              <a:chExt cx="1756800" cy="374400"/>
            </a:xfrm>
          </p:grpSpPr>
          <p:sp>
            <p:nvSpPr>
              <p:cNvPr id="326" name=""/>
              <p:cNvSpPr/>
              <p:nvPr/>
            </p:nvSpPr>
            <p:spPr>
              <a:xfrm>
                <a:off x="5096160" y="22176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253120" y="2068560"/>
                <a:ext cx="15998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V="1">
                <a:off x="6754680" y="206532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5110200" y="2568240"/>
              <a:ext cx="1339920" cy="374760"/>
              <a:chOff x="5110200" y="2568240"/>
              <a:chExt cx="1339920" cy="374760"/>
            </a:xfrm>
          </p:grpSpPr>
          <p:sp>
            <p:nvSpPr>
              <p:cNvPr id="330" name=""/>
              <p:cNvSpPr/>
              <p:nvPr/>
            </p:nvSpPr>
            <p:spPr>
              <a:xfrm>
                <a:off x="5110200" y="270684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267520" y="2571840"/>
                <a:ext cx="118260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V="1">
                <a:off x="6351840" y="256824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33" name=""/>
            <p:cNvCxnSpPr>
              <a:stCxn id="322" idx="3"/>
              <a:endCxn id="326" idx="2"/>
            </p:cNvCxnSpPr>
            <p:nvPr/>
          </p:nvCxnSpPr>
          <p:spPr>
            <a:xfrm flipV="1">
              <a:off x="4035600" y="2293200"/>
              <a:ext cx="104688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34" name=""/>
            <p:cNvCxnSpPr>
              <a:stCxn id="322" idx="2"/>
              <a:endCxn id="330" idx="2"/>
            </p:cNvCxnSpPr>
            <p:nvPr/>
          </p:nvCxnSpPr>
          <p:spPr>
            <a:xfrm flipH="1" rot="16200000">
              <a:off x="4200840" y="1887120"/>
              <a:ext cx="243360" cy="1548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35" name=""/>
            <p:cNvSpPr/>
            <p:nvPr/>
          </p:nvSpPr>
          <p:spPr>
            <a:xfrm>
              <a:off x="4224960" y="242424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1020600" y="1247760"/>
            <a:ext cx="1511280" cy="411120"/>
            <a:chOff x="1020600" y="1247760"/>
            <a:chExt cx="1511280" cy="411120"/>
          </a:xfrm>
        </p:grpSpPr>
        <p:sp>
          <p:nvSpPr>
            <p:cNvPr id="337" name=""/>
            <p:cNvSpPr/>
            <p:nvPr/>
          </p:nvSpPr>
          <p:spPr>
            <a:xfrm>
              <a:off x="1020600" y="12477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152360" y="157140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235240" y="157140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0" name=""/>
          <p:cNvCxnSpPr>
            <a:stCxn id="339" idx="2"/>
            <a:endCxn id="323" idx="2"/>
          </p:cNvCxnSpPr>
          <p:nvPr/>
        </p:nvCxnSpPr>
        <p:spPr>
          <a:xfrm flipH="1" rot="16200000">
            <a:off x="2205000" y="1739520"/>
            <a:ext cx="696240" cy="534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41" name=""/>
          <p:cNvSpPr/>
          <p:nvPr/>
        </p:nvSpPr>
        <p:spPr>
          <a:xfrm>
            <a:off x="1917360" y="18018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970680" y="2068560"/>
            <a:ext cx="207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ume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ata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95120" y="2602080"/>
            <a:ext cx="8750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si_unit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TYPE OF (named_uni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 : OPTIONAL si_prefi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i_unit_na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i_unit_na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ENUMERATION OF (METRE, GRAM,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COND, AMPER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LVIN, MOLE, CANDELA, RADIAN, STERADIAN, HERTZ, NEWTON, PASCAL, JOULE, WATT, COULOMB, VOLT, FARAD, OHM, SIEMENS, WEBER, TESLA, HENRY, DEGREE_CELSIUS, LUMEN, LUX, BECQUEREL, GRAY, SIEVER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lect Data Types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335920" y="168588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25400" y="1720800"/>
            <a:ext cx="1889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629080" y="1825560"/>
            <a:ext cx="19188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865080" y="17035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9" name=""/>
          <p:cNvCxnSpPr>
            <a:stCxn id="345" idx="1"/>
            <a:endCxn id="347" idx="6"/>
          </p:cNvCxnSpPr>
          <p:nvPr/>
        </p:nvCxnSpPr>
        <p:spPr>
          <a:xfrm flipH="1">
            <a:off x="2835000" y="1898280"/>
            <a:ext cx="2473920" cy="20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0" name=""/>
          <p:cNvSpPr/>
          <p:nvPr/>
        </p:nvSpPr>
        <p:spPr>
          <a:xfrm>
            <a:off x="3112560" y="15177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208480" y="201312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40520" y="337644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052640" y="31910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14520" y="337644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6" idx="2"/>
            <a:endCxn id="353" idx="0"/>
          </p:cNvCxnSpPr>
          <p:nvPr/>
        </p:nvCxnSpPr>
        <p:spPr>
          <a:xfrm>
            <a:off x="1123560" y="2975040"/>
            <a:ext cx="5400" cy="202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7" name=""/>
          <p:cNvSpPr/>
          <p:nvPr/>
        </p:nvSpPr>
        <p:spPr>
          <a:xfrm>
            <a:off x="1112760" y="377496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216720" y="2565360"/>
            <a:ext cx="2002680" cy="368280"/>
            <a:chOff x="216720" y="2565360"/>
            <a:chExt cx="2002680" cy="368280"/>
          </a:xfrm>
        </p:grpSpPr>
        <p:sp>
          <p:nvSpPr>
            <p:cNvPr id="356" name=""/>
            <p:cNvSpPr/>
            <p:nvPr/>
          </p:nvSpPr>
          <p:spPr>
            <a:xfrm>
              <a:off x="216720" y="256536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066760" y="269712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2336760" y="200664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1" name=""/>
          <p:cNvCxnSpPr>
            <a:stCxn id="360" idx="2"/>
            <a:endCxn id="359" idx="6"/>
          </p:cNvCxnSpPr>
          <p:nvPr/>
        </p:nvCxnSpPr>
        <p:spPr>
          <a:xfrm rot="5400000">
            <a:off x="2006640" y="2334240"/>
            <a:ext cx="665640" cy="213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62" name=""/>
          <p:cNvCxnSpPr>
            <a:stCxn id="360" idx="2"/>
            <a:endCxn id="363" idx="6"/>
          </p:cNvCxnSpPr>
          <p:nvPr/>
        </p:nvCxnSpPr>
        <p:spPr>
          <a:xfrm rot="5400000">
            <a:off x="1168200" y="3172320"/>
            <a:ext cx="2342160" cy="213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64" name=""/>
          <p:cNvCxnSpPr>
            <a:stCxn id="357" idx="4"/>
            <a:endCxn id="365" idx="0"/>
          </p:cNvCxnSpPr>
          <p:nvPr/>
        </p:nvCxnSpPr>
        <p:spPr>
          <a:xfrm flipH="1">
            <a:off x="1185120" y="3941640"/>
            <a:ext cx="3960" cy="28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66" name=""/>
          <p:cNvGrpSpPr/>
          <p:nvPr/>
        </p:nvGrpSpPr>
        <p:grpSpPr>
          <a:xfrm>
            <a:off x="315720" y="4241880"/>
            <a:ext cx="1903680" cy="368280"/>
            <a:chOff x="315720" y="4241880"/>
            <a:chExt cx="1903680" cy="368280"/>
          </a:xfrm>
        </p:grpSpPr>
        <p:sp>
          <p:nvSpPr>
            <p:cNvPr id="365" name=""/>
            <p:cNvSpPr/>
            <p:nvPr/>
          </p:nvSpPr>
          <p:spPr>
            <a:xfrm>
              <a:off x="315720" y="4241880"/>
              <a:ext cx="173988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ss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066760" y="437364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6446880" y="202248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29040" y="120348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elec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25720" y="2293920"/>
            <a:ext cx="598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measure_with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easure_valu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 : 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measure_valu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SELE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length_measure, mass_measur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length_measure =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mass_measure =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16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33840" y="2590920"/>
            <a:ext cx="4324320" cy="32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Origin in STE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Its R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Its use in LPM/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ins feat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PRESS-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lect Data Types (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335920" y="168588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6154560" y="2592360"/>
            <a:ext cx="690840" cy="592560"/>
            <a:chOff x="6154560" y="2592360"/>
            <a:chExt cx="690840" cy="592560"/>
          </a:xfrm>
        </p:grpSpPr>
        <p:sp>
          <p:nvSpPr>
            <p:cNvPr id="373" name=""/>
            <p:cNvSpPr/>
            <p:nvPr/>
          </p:nvSpPr>
          <p:spPr>
            <a:xfrm>
              <a:off x="6154560" y="2814480"/>
              <a:ext cx="69084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405480" y="2592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264360" y="279648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6" name=""/>
          <p:cNvCxnSpPr>
            <a:stCxn id="371" idx="2"/>
            <a:endCxn id="374" idx="0"/>
          </p:cNvCxnSpPr>
          <p:nvPr/>
        </p:nvCxnSpPr>
        <p:spPr>
          <a:xfrm>
            <a:off x="6496200" y="2125800"/>
            <a:ext cx="3600" cy="452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77" name=""/>
          <p:cNvGrpSpPr/>
          <p:nvPr/>
        </p:nvGrpSpPr>
        <p:grpSpPr>
          <a:xfrm>
            <a:off x="7120080" y="3354480"/>
            <a:ext cx="1792440" cy="398880"/>
            <a:chOff x="7120080" y="3354480"/>
            <a:chExt cx="1792440" cy="398880"/>
          </a:xfrm>
        </p:grpSpPr>
        <p:sp>
          <p:nvSpPr>
            <p:cNvPr id="378" name=""/>
            <p:cNvSpPr/>
            <p:nvPr/>
          </p:nvSpPr>
          <p:spPr>
            <a:xfrm>
              <a:off x="7343280" y="335448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120080" y="34560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7147080" y="3944880"/>
            <a:ext cx="1734840" cy="398880"/>
            <a:chOff x="7147080" y="3944880"/>
            <a:chExt cx="1734840" cy="398880"/>
          </a:xfrm>
        </p:grpSpPr>
        <p:sp>
          <p:nvSpPr>
            <p:cNvPr id="381" name=""/>
            <p:cNvSpPr/>
            <p:nvPr/>
          </p:nvSpPr>
          <p:spPr>
            <a:xfrm>
              <a:off x="7370640" y="394488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147080" y="40464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83" name=""/>
          <p:cNvCxnSpPr>
            <a:stCxn id="373" idx="2"/>
            <a:endCxn id="382" idx="2"/>
          </p:cNvCxnSpPr>
          <p:nvPr/>
        </p:nvCxnSpPr>
        <p:spPr>
          <a:xfrm flipH="1" rot="16200000">
            <a:off x="6357600" y="3366000"/>
            <a:ext cx="916920" cy="63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84" name=""/>
          <p:cNvCxnSpPr>
            <a:stCxn id="373" idx="2"/>
            <a:endCxn id="379" idx="2"/>
          </p:cNvCxnSpPr>
          <p:nvPr/>
        </p:nvCxnSpPr>
        <p:spPr>
          <a:xfrm flipH="1" rot="16200000">
            <a:off x="6640560" y="3084120"/>
            <a:ext cx="326160" cy="605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5" name=""/>
          <p:cNvSpPr/>
          <p:nvPr/>
        </p:nvSpPr>
        <p:spPr>
          <a:xfrm>
            <a:off x="6518880" y="215424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25400" y="1720800"/>
            <a:ext cx="1889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629080" y="1825560"/>
            <a:ext cx="19188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865080" y="17035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"/>
          <p:cNvCxnSpPr>
            <a:stCxn id="371" idx="1"/>
            <a:endCxn id="387" idx="6"/>
          </p:cNvCxnSpPr>
          <p:nvPr/>
        </p:nvCxnSpPr>
        <p:spPr>
          <a:xfrm flipH="1">
            <a:off x="2835000" y="1898280"/>
            <a:ext cx="2473920" cy="20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0" name=""/>
          <p:cNvSpPr/>
          <p:nvPr/>
        </p:nvSpPr>
        <p:spPr>
          <a:xfrm>
            <a:off x="3112560" y="15177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208480" y="201312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336760" y="200664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446880" y="202248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925320" y="275904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elec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85840" y="2338560"/>
            <a:ext cx="598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measure_with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 : measure_val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un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SELE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derived_unit, named_uni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named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derived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ggreg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874080" y="3411360"/>
            <a:ext cx="35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ments_of_inertia A[1:3] A[1: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8" name=""/>
          <p:cNvCxnSpPr>
            <a:stCxn id="399" idx="2"/>
            <a:endCxn id="400" idx="2"/>
          </p:cNvCxnSpPr>
          <p:nvPr/>
        </p:nvCxnSpPr>
        <p:spPr>
          <a:xfrm flipH="1" rot="16200000">
            <a:off x="2950200" y="1425240"/>
            <a:ext cx="726120" cy="2145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01" name=""/>
          <p:cNvSpPr/>
          <p:nvPr/>
        </p:nvSpPr>
        <p:spPr>
          <a:xfrm>
            <a:off x="2475000" y="248904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es A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2" name=""/>
          <p:cNvCxnSpPr>
            <a:stCxn id="403" idx="2"/>
            <a:endCxn id="404" idx="2"/>
          </p:cNvCxnSpPr>
          <p:nvPr/>
        </p:nvCxnSpPr>
        <p:spPr>
          <a:xfrm flipH="1" rot="16200000">
            <a:off x="1759680" y="1175040"/>
            <a:ext cx="1694520" cy="3556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05" name=""/>
          <p:cNvGrpSpPr/>
          <p:nvPr/>
        </p:nvGrpSpPr>
        <p:grpSpPr>
          <a:xfrm>
            <a:off x="352800" y="1695600"/>
            <a:ext cx="3777480" cy="410400"/>
            <a:chOff x="352800" y="1695600"/>
            <a:chExt cx="3777480" cy="410400"/>
          </a:xfrm>
        </p:grpSpPr>
        <p:sp>
          <p:nvSpPr>
            <p:cNvPr id="399" name=""/>
            <p:cNvSpPr/>
            <p:nvPr/>
          </p:nvSpPr>
          <p:spPr>
            <a:xfrm>
              <a:off x="352800" y="1695600"/>
              <a:ext cx="3777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point_stationary_ma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2280" y="1947600"/>
              <a:ext cx="27288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546280" y="1947600"/>
              <a:ext cx="27324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4560840" y="2670120"/>
            <a:ext cx="94464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5407200" y="266976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400640" y="27846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398840" y="372420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562640" y="3578400"/>
            <a:ext cx="9442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5380200" y="357804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58320" y="4043520"/>
            <a:ext cx="38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wo Dimensional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560120" y="212256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One Dimensional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-62280" y="4935600"/>
            <a:ext cx="764316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element_point_stationary_m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es : ARRAY [1:3] OF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ments_of_inertia : ARRAY [1:3] OF ARRAY [1:3] OF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verse Claus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439640" y="1384200"/>
            <a:ext cx="181044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82960" y="229860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254160" y="266544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01520" y="25830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126080" y="243036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257560" y="22683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3480120" y="123660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088160" y="2125800"/>
            <a:ext cx="4776480" cy="784080"/>
            <a:chOff x="4088160" y="2125800"/>
            <a:chExt cx="4776480" cy="784080"/>
          </a:xfrm>
        </p:grpSpPr>
        <p:sp>
          <p:nvSpPr>
            <p:cNvPr id="423" name=""/>
            <p:cNvSpPr/>
            <p:nvPr/>
          </p:nvSpPr>
          <p:spPr>
            <a:xfrm>
              <a:off x="4088160" y="2428920"/>
              <a:ext cx="27738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6858000" y="2486160"/>
              <a:ext cx="183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697960" y="24242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6946920" y="2486160"/>
              <a:ext cx="1475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6870240" y="2833560"/>
              <a:ext cx="184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712360" y="27576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843600" y="2125800"/>
              <a:ext cx="1905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391000" y="22622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893520" y="1847880"/>
            <a:ext cx="138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784600" y="1658880"/>
            <a:ext cx="404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3" name=""/>
          <p:cNvCxnSpPr>
            <a:stCxn id="415" idx="3"/>
            <a:endCxn id="430" idx="0"/>
          </p:cNvCxnSpPr>
          <p:nvPr/>
        </p:nvCxnSpPr>
        <p:spPr>
          <a:xfrm>
            <a:off x="3274920" y="1596960"/>
            <a:ext cx="2193120" cy="651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34" name=""/>
          <p:cNvCxnSpPr>
            <a:stCxn id="415" idx="2"/>
            <a:endCxn id="420" idx="0"/>
          </p:cNvCxnSpPr>
          <p:nvPr/>
        </p:nvCxnSpPr>
        <p:spPr>
          <a:xfrm rot="5400000">
            <a:off x="2123280" y="2033280"/>
            <a:ext cx="430920" cy="11880"/>
          </a:xfrm>
          <a:prstGeom prst="bentConnector3">
            <a:avLst>
              <a:gd name="adj1" fmla="val 4974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586080" y="1241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571680" y="160812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19040" y="15256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3399840" y="1627200"/>
            <a:ext cx="4887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(INV) representations_in_context S 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-140400" y="2876400"/>
            <a:ext cx="9491760" cy="34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representatio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 :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: SET [1:?] OF representation_it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 : representation_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representation_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identifier : identifi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type : 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presentations_in_context : SET [1:?] OF representation FOR context_of_item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442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445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448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451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454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458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533840" y="2590920"/>
            <a:ext cx="4324320" cy="32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571680" indent="-5716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ffff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RESS: Its origin in STEP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P needed a modelling language that was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dependent of a storage or programming paradigm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changeable in ASCII between different computers using different operating system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fficiently rigorous to define all the constraints  required to model product data,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mpilable into a schema for at least one of the following: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1)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n exchange file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(Level 1 Implementation form)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2)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 shared memory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(Level 2 Implementation form),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3)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 shared logical database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(Level 3 Implementation form)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4)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 share knowledge base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(Level 4 Implementation form)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SO 10303-11: 1994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standard language for data specifica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ms a neutral computer processable conceptual schem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n be parsed into a variety of format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(e.g. SQL, C++, FORTRAN).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t allows a data model of a product to be defined in terms of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 schema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ing entiti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th attribute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d constraints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Role of EXPR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PRESS has been created specifically to define the information throughout a product’s life-cycl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RESS itself does not provide for the definition of database formats, file formats, or transfer syntax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Other parts of ISO 10303 provide for mappings from EXPRESS schemata to implementation forms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(e.g. ISO 10303-21 which defines the exchange file format).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RESS data models are used to generate the data structures held within the STEP physical file using the mappings defined in the standard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However, the STEP physical file format is totally independent of EXPRESS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se of EXPRESS in 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6280" indent="-4762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is the key component of CIS/2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76280" indent="-4762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Graphically presented in EXPRESS-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76280" indent="-4762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ormally specified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1047600" indent="-3808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ort form (containing definitions of specialized constructs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47600" indent="-3808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g form (implementation schema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EXPRESS Short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EXPRESS Schema 'short form'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vides illustrated descriptions of LPM/5 enti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with their attributes &amp; formal propositions (rules &amp; constraints),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ogether with references to STEP resources.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It doe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 repeat the definitions of those STEP entities that have been used from the Generic Resources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 Declaration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 Interface Declaration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Declarations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- for Types specific to LPM/5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Declarations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- for Entities specific to LPM/5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Rule Declaration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Function Declaration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EXPRESS Long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EXPRESS Schema 'long form’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e single schem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th all the inter-schema references resolve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 no definitions or explanation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erely an EXPRESS long form listing of the CIS/2 implementation schema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 Declaration - STRUCTURAL_FRAME_SCHEMA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Declarations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- for all (Generic &amp; Specific) Type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Declarations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- for all (Generic &amp; Specific) Entitie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Rule Declarations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- for all (imported) Rule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Function Declarations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- for all (imported) Function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Andrew Crowley</cp:lastModifiedBy>
  <cp:lastPrinted>1999-02-12T09:16:18Z</cp:lastPrinted>
  <dcterms:modified xsi:type="dcterms:W3CDTF">1999-06-18T19:36:37Z</dcterms:modified>
  <cp:revision>84</cp:revision>
  <dc:subject/>
  <dc:title>No Slide Title</dc:title>
</cp:coreProperties>
</file>